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07D-5812-4459-BE83-3D4DF03F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2EC-6B4E-415A-82A5-BD55D568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AE6-5ECF-42DD-8917-098C0681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687-FE31-4747-A9BF-9DD65F59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D8C-5B8D-4A21-ABD7-B9F0C5CE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19B-2EDA-4594-B2C6-E61E7E76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8EB-B942-4F07-80AB-14B83EFB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3E8-844F-43AD-B94F-BD2111A1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363-7FB2-49C6-B73F-08020645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32E-801A-497E-9761-7BC0F59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C52-1A02-45B0-891D-5078B39E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317-72CC-403B-9177-BC44F834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57E4-423E-4065-9E28-1A57A4966A3C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3.10 Nunavut: Changing the Map of Can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8000" y="2637000"/>
            <a:ext cx="403236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356000" y="2637000"/>
            <a:ext cx="4537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Nunavut: The Changing of the Ti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Nunavut means “Our Land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opulation: 34, 15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Language: Inuktitut (which means “In the manner of the Inuit”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Climate: Arctic to Subarctic.  Very long and very cold winters.  Summers are brief and c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verage Temp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January: Early Morning -30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July: 11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every 1000 people there are 80 have cars (Canada 46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ompari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907920"/>
          <a:ext cx="8147160" cy="5742000"/>
        </p:xfrm>
        <a:graphic>
          <a:graphicData uri="http://schemas.openxmlformats.org/drawingml/2006/table">
            <a:tbl>
              <a:tblPr/>
              <a:tblGrid>
                <a:gridCol w="2716200"/>
                <a:gridCol w="2714760"/>
                <a:gridCol w="27162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t of Canad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navu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3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zen Egg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.7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2.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g of Potato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.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.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3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a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.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.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2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 (2L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2.7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5.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3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l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2.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.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1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pers (54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3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.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efore it was Nunav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fore the land was Nunavut, the Inuit people lived off the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Inuit living off the land was like a relationship between a baby and a m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uit lived as nomads.  That means moving from place to place to follow the migration routes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efore it was Nunav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619280" y="1519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2755800" y="5761080"/>
            <a:ext cx="31752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efore it was Nunav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14680" y="1700280"/>
            <a:ext cx="5715000" cy="345744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3" descr=""/>
          <p:cNvPicPr/>
          <p:nvPr/>
        </p:nvPicPr>
        <p:blipFill>
          <a:blip r:embed="rId2"/>
          <a:stretch/>
        </p:blipFill>
        <p:spPr>
          <a:xfrm>
            <a:off x="3333600" y="4956120"/>
            <a:ext cx="2470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efore it was Nunav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616720" cy="294012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3" descr=""/>
          <p:cNvPicPr/>
          <p:nvPr/>
        </p:nvPicPr>
        <p:blipFill>
          <a:blip r:embed="rId2"/>
          <a:stretch/>
        </p:blipFill>
        <p:spPr>
          <a:xfrm>
            <a:off x="3535200" y="4748040"/>
            <a:ext cx="20736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efore it was Nunav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185080" cy="352728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3" descr=""/>
          <p:cNvPicPr/>
          <p:nvPr/>
        </p:nvPicPr>
        <p:blipFill>
          <a:blip r:embed="rId2"/>
          <a:stretch/>
        </p:blipFill>
        <p:spPr>
          <a:xfrm>
            <a:off x="3376440" y="5035680"/>
            <a:ext cx="238464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Nunavut: The Changing of the Ti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white man has ushered in a new lifestyle in which Inuit must not only live away from the land, but also in comfort and ease, having been introduce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2771640" cy="237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708360" y="4003560"/>
            <a:ext cx="272412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3" descr=""/>
          <p:cNvPicPr/>
          <p:nvPr/>
        </p:nvPicPr>
        <p:blipFill>
          <a:blip r:embed="rId3"/>
          <a:stretch/>
        </p:blipFill>
        <p:spPr>
          <a:xfrm>
            <a:off x="6151680" y="3859200"/>
            <a:ext cx="30780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Nunavut: The Changing of the Ti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360" y="1409760"/>
            <a:ext cx="4286520" cy="302724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3" descr=""/>
          <p:cNvPicPr/>
          <p:nvPr/>
        </p:nvPicPr>
        <p:blipFill>
          <a:blip r:embed="rId2"/>
          <a:stretch/>
        </p:blipFill>
        <p:spPr>
          <a:xfrm>
            <a:off x="328680" y="4535640"/>
            <a:ext cx="2511360" cy="156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4554360" y="1557360"/>
            <a:ext cx="4338720" cy="287964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4" descr=""/>
          <p:cNvPicPr/>
          <p:nvPr/>
        </p:nvPicPr>
        <p:blipFill>
          <a:blip r:embed="rId4"/>
          <a:stretch/>
        </p:blipFill>
        <p:spPr>
          <a:xfrm>
            <a:off x="4187880" y="4535640"/>
            <a:ext cx="477360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Nunavut: The Changing of the Ti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4356000" cy="338436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3" descr=""/>
          <p:cNvPicPr/>
          <p:nvPr/>
        </p:nvPicPr>
        <p:blipFill>
          <a:blip r:embed="rId2"/>
          <a:stretch/>
        </p:blipFill>
        <p:spPr>
          <a:xfrm>
            <a:off x="487440" y="4780080"/>
            <a:ext cx="3371760" cy="2382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392720" cy="34146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4"/>
          <a:stretch/>
        </p:blipFill>
        <p:spPr>
          <a:xfrm>
            <a:off x="4992840" y="4913280"/>
            <a:ext cx="37731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3:38:06Z</dcterms:created>
  <dc:creator>Jason</dc:creator>
  <dc:description/>
  <dc:language>en-US</dc:language>
  <cp:lastModifiedBy>Jason</cp:lastModifiedBy>
  <dcterms:modified xsi:type="dcterms:W3CDTF">2011-05-19T00:18:41Z</dcterms:modified>
  <cp:revision>5</cp:revision>
  <dc:subject/>
  <dc:title>3.10 Nunavut: Changing the Map of Canada</dc:title>
</cp:coreProperties>
</file>